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E6B-FE60-49DA-A775-88A2AB36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6CB-AEDC-48C6-9BF3-0B1AED0D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CEF-1308-4F44-B5D0-284B2B11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4CA-50E4-4C2A-BABB-D53D6E76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054-0988-4E6F-B5EA-A4E64E73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FD3-ED3D-437A-994C-A4196565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AF4-0D49-4F28-9079-87DA68CC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C20-4623-4437-8832-8FEF77BA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24B-2883-4B19-8222-EB7E2EA5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681-EC7D-4C8B-B59F-14FA5924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3A4-4BA5-422E-BF39-16E134B3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20D-D75D-4326-9F39-A9719CFF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16A0-62B5-4D11-9F24-CA839BC203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TWOOD                               UPHALL  STATION                           WHITEVALE  1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2" descr="Titwood 1.jpg"/>
          <p:cNvPicPr/>
          <p:nvPr/>
        </p:nvPicPr>
        <p:blipFill>
          <a:blip r:embed="rId1"/>
          <a:stretch/>
        </p:blipFill>
        <p:spPr>
          <a:xfrm>
            <a:off x="415800" y="476280"/>
            <a:ext cx="10987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Whitevale 175th.jpg"/>
          <p:cNvPicPr/>
          <p:nvPr/>
        </p:nvPicPr>
        <p:blipFill>
          <a:blip r:embed="rId2"/>
          <a:stretch/>
        </p:blipFill>
        <p:spPr>
          <a:xfrm>
            <a:off x="3728880" y="692280"/>
            <a:ext cx="1074960" cy="103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Uphall Station 1.JPG"/>
          <p:cNvPicPr/>
          <p:nvPr/>
        </p:nvPicPr>
        <p:blipFill>
          <a:blip r:embed="rId3"/>
          <a:stretch/>
        </p:blipFill>
        <p:spPr>
          <a:xfrm>
            <a:off x="2000160" y="620640"/>
            <a:ext cx="10796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8-24T14:43:43Z</dcterms:modified>
  <cp:revision>89</cp:revision>
  <dc:subject/>
  <dc:title>Slide 1</dc:title>
</cp:coreProperties>
</file>